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215-7F35-4AE0-9ADF-F7276C03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5E2-18C4-4EFF-B88C-5D0FBF46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057-69F1-4CE4-92AE-D5680C9E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8DB-35F5-4314-ABCB-DECEE081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0F7-894C-4C65-AD27-2BB900C8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D62-E310-4FD3-8616-81EDD150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D81-EDF1-440F-A5EB-996473E3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7F5-BE79-4E2A-A690-69185223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6F5-40C3-4687-ABFA-6D2A708E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E60-A1D9-4AAF-AB11-477E333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C4B-79EE-4241-B94C-E216A28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FAA-0AAB-44C8-9F13-446F8E5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2F66-93B7-40C7-A870-2EAA1F478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42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45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48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51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54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5"/>
          <p:cNvGrpSpPr/>
          <p:nvPr/>
        </p:nvGrpSpPr>
        <p:grpSpPr>
          <a:xfrm>
            <a:off x="6019920" y="2362320"/>
            <a:ext cx="1600200" cy="1523880"/>
            <a:chOff x="6019920" y="2362320"/>
            <a:chExt cx="1600200" cy="1523880"/>
          </a:xfrm>
        </p:grpSpPr>
        <p:sp>
          <p:nvSpPr>
            <p:cNvPr id="57" name="Line 26"/>
            <p:cNvSpPr/>
            <p:nvPr/>
          </p:nvSpPr>
          <p:spPr>
            <a:xfrm>
              <a:off x="60199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7"/>
            <p:cNvSpPr/>
            <p:nvPr/>
          </p:nvSpPr>
          <p:spPr>
            <a:xfrm>
              <a:off x="6019920" y="3886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60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1"/>
          <p:cNvGrpSpPr/>
          <p:nvPr/>
        </p:nvGrpSpPr>
        <p:grpSpPr>
          <a:xfrm>
            <a:off x="6019920" y="304920"/>
            <a:ext cx="1600200" cy="1523880"/>
            <a:chOff x="6019920" y="304920"/>
            <a:chExt cx="1600200" cy="1523880"/>
          </a:xfrm>
        </p:grpSpPr>
        <p:sp>
          <p:nvSpPr>
            <p:cNvPr id="63" name="Line 32"/>
            <p:cNvSpPr/>
            <p:nvPr/>
          </p:nvSpPr>
          <p:spPr>
            <a:xfrm>
              <a:off x="6019920" y="3049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3"/>
            <p:cNvSpPr/>
            <p:nvPr/>
          </p:nvSpPr>
          <p:spPr>
            <a:xfrm>
              <a:off x="6019920" y="1828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4"/>
          <p:cNvGrpSpPr/>
          <p:nvPr/>
        </p:nvGrpSpPr>
        <p:grpSpPr>
          <a:xfrm>
            <a:off x="6095880" y="4572000"/>
            <a:ext cx="1676160" cy="1523880"/>
            <a:chOff x="6095880" y="4572000"/>
            <a:chExt cx="1676160" cy="1523880"/>
          </a:xfrm>
        </p:grpSpPr>
        <p:sp>
          <p:nvSpPr>
            <p:cNvPr id="66" name="Line 35"/>
            <p:cNvSpPr/>
            <p:nvPr/>
          </p:nvSpPr>
          <p:spPr>
            <a:xfrm>
              <a:off x="60958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6"/>
            <p:cNvSpPr/>
            <p:nvPr/>
          </p:nvSpPr>
          <p:spPr>
            <a:xfrm>
              <a:off x="60958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29"/>
          <p:cNvSpPr/>
          <p:nvPr/>
        </p:nvSpPr>
        <p:spPr>
          <a:xfrm flipV="1" rot="5400000">
            <a:off x="-768240" y="10047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fri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3"/>
          <p:cNvSpPr/>
          <p:nvPr/>
        </p:nvSpPr>
        <p:spPr>
          <a:xfrm>
            <a:off x="776160" y="563400"/>
            <a:ext cx="1509840" cy="1098720"/>
          </a:xfrm>
          <a:custGeom>
            <a:avLst/>
            <a:gdLst/>
            <a:ahLst/>
            <a:rect l="l" t="t" r="r" b="b"/>
            <a:pathLst>
              <a:path w="1803399" h="1099127">
                <a:moveTo>
                  <a:pt x="0" y="1099127"/>
                </a:moveTo>
                <a:cubicBezTo>
                  <a:pt x="137391" y="742373"/>
                  <a:pt x="274782" y="385619"/>
                  <a:pt x="457200" y="240146"/>
                </a:cubicBezTo>
                <a:cubicBezTo>
                  <a:pt x="639618" y="94673"/>
                  <a:pt x="962891" y="251691"/>
                  <a:pt x="1094509" y="226291"/>
                </a:cubicBezTo>
                <a:cubicBezTo>
                  <a:pt x="1226127" y="200891"/>
                  <a:pt x="1200727" y="96982"/>
                  <a:pt x="1246909" y="87746"/>
                </a:cubicBezTo>
                <a:cubicBezTo>
                  <a:pt x="1293091" y="78510"/>
                  <a:pt x="1304637" y="157019"/>
                  <a:pt x="1371600" y="170873"/>
                </a:cubicBezTo>
                <a:cubicBezTo>
                  <a:pt x="1438563" y="184727"/>
                  <a:pt x="1581727" y="193964"/>
                  <a:pt x="1648690" y="170873"/>
                </a:cubicBezTo>
                <a:cubicBezTo>
                  <a:pt x="1715653" y="147782"/>
                  <a:pt x="1747981" y="60036"/>
                  <a:pt x="1773381" y="32327"/>
                </a:cubicBezTo>
                <a:cubicBezTo>
                  <a:pt x="1798781" y="4618"/>
                  <a:pt x="1798781" y="9236"/>
                  <a:pt x="1801090" y="4618"/>
                </a:cubicBezTo>
                <a:cubicBezTo>
                  <a:pt x="1803399" y="0"/>
                  <a:pt x="1795317" y="2309"/>
                  <a:pt x="1787236" y="46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4"/>
          <p:cNvSpPr/>
          <p:nvPr/>
        </p:nvSpPr>
        <p:spPr>
          <a:xfrm rot="16200000">
            <a:off x="2428920" y="966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3962520" y="1905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6"/>
          <p:cNvSpPr/>
          <p:nvPr/>
        </p:nvSpPr>
        <p:spPr>
          <a:xfrm>
            <a:off x="3546360" y="598320"/>
            <a:ext cx="1559160" cy="1216080"/>
          </a:xfrm>
          <a:custGeom>
            <a:avLst/>
            <a:gdLst/>
            <a:ahLst/>
            <a:rect l="l" t="t" r="r" b="b"/>
            <a:pathLst>
              <a:path w="1778000" h="1216891">
                <a:moveTo>
                  <a:pt x="0" y="1216891"/>
                </a:moveTo>
                <a:cubicBezTo>
                  <a:pt x="167409" y="1042554"/>
                  <a:pt x="334818" y="868218"/>
                  <a:pt x="484909" y="801255"/>
                </a:cubicBezTo>
                <a:cubicBezTo>
                  <a:pt x="635000" y="734292"/>
                  <a:pt x="762000" y="847437"/>
                  <a:pt x="900545" y="815110"/>
                </a:cubicBezTo>
                <a:cubicBezTo>
                  <a:pt x="1039090" y="782783"/>
                  <a:pt x="1182254" y="727364"/>
                  <a:pt x="1316181" y="607291"/>
                </a:cubicBezTo>
                <a:cubicBezTo>
                  <a:pt x="1450108" y="487218"/>
                  <a:pt x="1630218" y="189346"/>
                  <a:pt x="1704109" y="94673"/>
                </a:cubicBezTo>
                <a:cubicBezTo>
                  <a:pt x="1778000" y="0"/>
                  <a:pt x="1768763" y="19627"/>
                  <a:pt x="1759527" y="39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 rot="16200000">
            <a:off x="509112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63244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"/>
          <p:cNvSpPr/>
          <p:nvPr/>
        </p:nvSpPr>
        <p:spPr>
          <a:xfrm flipH="1" flipV="1" rot="10800000">
            <a:off x="6323400" y="3961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1"/>
          <p:cNvSpPr/>
          <p:nvPr/>
        </p:nvSpPr>
        <p:spPr>
          <a:xfrm>
            <a:off x="6019920" y="685800"/>
            <a:ext cx="1447560" cy="1106640"/>
          </a:xfrm>
          <a:custGeom>
            <a:avLst/>
            <a:gdLst/>
            <a:ahLst/>
            <a:rect l="l" t="t" r="r" b="b"/>
            <a:pathLst>
              <a:path w="1911928" h="1036782">
                <a:moveTo>
                  <a:pt x="0" y="1036782"/>
                </a:moveTo>
                <a:cubicBezTo>
                  <a:pt x="240146" y="991754"/>
                  <a:pt x="480292" y="946727"/>
                  <a:pt x="623455" y="884382"/>
                </a:cubicBezTo>
                <a:cubicBezTo>
                  <a:pt x="766618" y="822037"/>
                  <a:pt x="720437" y="711201"/>
                  <a:pt x="858982" y="662710"/>
                </a:cubicBezTo>
                <a:cubicBezTo>
                  <a:pt x="997527" y="614219"/>
                  <a:pt x="1290782" y="688110"/>
                  <a:pt x="1454727" y="593437"/>
                </a:cubicBezTo>
                <a:cubicBezTo>
                  <a:pt x="1618673" y="498764"/>
                  <a:pt x="1773382" y="189346"/>
                  <a:pt x="1842655" y="94673"/>
                </a:cubicBezTo>
                <a:cubicBezTo>
                  <a:pt x="1911928" y="0"/>
                  <a:pt x="1891146" y="12700"/>
                  <a:pt x="1870364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 rot="16200000">
            <a:off x="-356760" y="2947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sib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5"/>
          <p:cNvSpPr/>
          <p:nvPr/>
        </p:nvSpPr>
        <p:spPr>
          <a:xfrm>
            <a:off x="803160" y="2341440"/>
            <a:ext cx="1667160" cy="1538280"/>
          </a:xfrm>
          <a:custGeom>
            <a:avLst/>
            <a:gdLst/>
            <a:ahLst/>
            <a:rect l="l" t="t" r="r" b="b"/>
            <a:pathLst>
              <a:path w="1667164" h="1537855">
                <a:moveTo>
                  <a:pt x="0" y="1537855"/>
                </a:moveTo>
                <a:lnTo>
                  <a:pt x="1399309" y="249382"/>
                </a:lnTo>
                <a:cubicBezTo>
                  <a:pt x="1667164" y="0"/>
                  <a:pt x="1637145" y="20782"/>
                  <a:pt x="1607127" y="415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396252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3962520" y="6248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5"/>
          <p:cNvSpPr/>
          <p:nvPr/>
        </p:nvSpPr>
        <p:spPr>
          <a:xfrm>
            <a:off x="11430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10666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5"/>
          <p:cNvSpPr/>
          <p:nvPr/>
        </p:nvSpPr>
        <p:spPr>
          <a:xfrm>
            <a:off x="73152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1"/>
          <p:cNvSpPr/>
          <p:nvPr/>
        </p:nvSpPr>
        <p:spPr>
          <a:xfrm rot="16200000">
            <a:off x="2233440" y="294732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3"/>
          <p:cNvSpPr/>
          <p:nvPr/>
        </p:nvSpPr>
        <p:spPr>
          <a:xfrm flipV="1">
            <a:off x="3505320" y="24382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4"/>
          <p:cNvSpPr/>
          <p:nvPr/>
        </p:nvSpPr>
        <p:spPr>
          <a:xfrm rot="16200000">
            <a:off x="490068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5"/>
          <p:cNvSpPr/>
          <p:nvPr/>
        </p:nvSpPr>
        <p:spPr>
          <a:xfrm>
            <a:off x="6019920" y="2590920"/>
            <a:ext cx="1488960" cy="1203120"/>
          </a:xfrm>
          <a:custGeom>
            <a:avLst/>
            <a:gdLst/>
            <a:ahLst/>
            <a:rect l="l" t="t" r="r" b="b"/>
            <a:pathLst>
              <a:path w="1567873" h="1203037">
                <a:moveTo>
                  <a:pt x="0" y="1203037"/>
                </a:moveTo>
                <a:cubicBezTo>
                  <a:pt x="189345" y="1193800"/>
                  <a:pt x="378691" y="1184564"/>
                  <a:pt x="498764" y="1133764"/>
                </a:cubicBezTo>
                <a:cubicBezTo>
                  <a:pt x="618837" y="1082964"/>
                  <a:pt x="574964" y="988292"/>
                  <a:pt x="720437" y="898237"/>
                </a:cubicBezTo>
                <a:cubicBezTo>
                  <a:pt x="865910" y="808183"/>
                  <a:pt x="1235364" y="727364"/>
                  <a:pt x="1371600" y="593437"/>
                </a:cubicBezTo>
                <a:cubicBezTo>
                  <a:pt x="1507836" y="459510"/>
                  <a:pt x="1507837" y="189346"/>
                  <a:pt x="1537855" y="94673"/>
                </a:cubicBezTo>
                <a:cubicBezTo>
                  <a:pt x="1567873" y="0"/>
                  <a:pt x="1559791" y="12700"/>
                  <a:pt x="1551709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6"/>
          <p:cNvSpPr/>
          <p:nvPr/>
        </p:nvSpPr>
        <p:spPr>
          <a:xfrm rot="16200000">
            <a:off x="-158400" y="5233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8"/>
          <p:cNvSpPr/>
          <p:nvPr/>
        </p:nvSpPr>
        <p:spPr>
          <a:xfrm>
            <a:off x="789120" y="5119560"/>
            <a:ext cx="1649160" cy="879480"/>
          </a:xfrm>
          <a:custGeom>
            <a:avLst/>
            <a:gdLst/>
            <a:ahLst/>
            <a:rect l="l" t="t" r="r" b="b"/>
            <a:pathLst>
              <a:path w="2369128" h="879764">
                <a:moveTo>
                  <a:pt x="0" y="879764"/>
                </a:moveTo>
                <a:cubicBezTo>
                  <a:pt x="245918" y="750455"/>
                  <a:pt x="491836" y="621146"/>
                  <a:pt x="609600" y="477982"/>
                </a:cubicBezTo>
                <a:cubicBezTo>
                  <a:pt x="727364" y="334818"/>
                  <a:pt x="579582" y="41564"/>
                  <a:pt x="706582" y="20782"/>
                </a:cubicBezTo>
                <a:cubicBezTo>
                  <a:pt x="833582" y="0"/>
                  <a:pt x="1177636" y="281709"/>
                  <a:pt x="1371600" y="353291"/>
                </a:cubicBezTo>
                <a:cubicBezTo>
                  <a:pt x="1565564" y="424873"/>
                  <a:pt x="1775691" y="399473"/>
                  <a:pt x="1870364" y="450273"/>
                </a:cubicBezTo>
                <a:cubicBezTo>
                  <a:pt x="1965037" y="501073"/>
                  <a:pt x="1868054" y="628073"/>
                  <a:pt x="1939636" y="658091"/>
                </a:cubicBezTo>
                <a:cubicBezTo>
                  <a:pt x="2011218" y="688109"/>
                  <a:pt x="2230582" y="639618"/>
                  <a:pt x="2299855" y="630382"/>
                </a:cubicBezTo>
                <a:cubicBezTo>
                  <a:pt x="2369128" y="621146"/>
                  <a:pt x="2362200" y="611909"/>
                  <a:pt x="2355273" y="60267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9"/>
          <p:cNvSpPr/>
          <p:nvPr/>
        </p:nvSpPr>
        <p:spPr>
          <a:xfrm rot="16200000">
            <a:off x="2432160" y="523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1"/>
          <p:cNvSpPr/>
          <p:nvPr/>
        </p:nvSpPr>
        <p:spPr>
          <a:xfrm>
            <a:off x="3505320" y="4800600"/>
            <a:ext cx="1295280" cy="1309680"/>
          </a:xfrm>
          <a:custGeom>
            <a:avLst/>
            <a:gdLst/>
            <a:ahLst/>
            <a:rect l="l" t="t" r="r" b="b"/>
            <a:pathLst>
              <a:path w="1433945" h="1466272">
                <a:moveTo>
                  <a:pt x="0" y="1281545"/>
                </a:moveTo>
                <a:cubicBezTo>
                  <a:pt x="57727" y="1134918"/>
                  <a:pt x="115455" y="988291"/>
                  <a:pt x="221673" y="921327"/>
                </a:cubicBezTo>
                <a:cubicBezTo>
                  <a:pt x="327891" y="854363"/>
                  <a:pt x="565727" y="1022926"/>
                  <a:pt x="637309" y="879763"/>
                </a:cubicBezTo>
                <a:cubicBezTo>
                  <a:pt x="708891" y="736600"/>
                  <a:pt x="538019" y="0"/>
                  <a:pt x="651164" y="62345"/>
                </a:cubicBezTo>
                <a:cubicBezTo>
                  <a:pt x="764309" y="124690"/>
                  <a:pt x="1198419" y="1041400"/>
                  <a:pt x="1316182" y="1253836"/>
                </a:cubicBezTo>
                <a:cubicBezTo>
                  <a:pt x="1433945" y="1466272"/>
                  <a:pt x="1395845" y="1401617"/>
                  <a:pt x="1357745" y="1336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 rot="16200000">
            <a:off x="5281560" y="5233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3"/>
          <p:cNvSpPr/>
          <p:nvPr/>
        </p:nvSpPr>
        <p:spPr>
          <a:xfrm>
            <a:off x="6095880" y="5410080"/>
            <a:ext cx="1627200" cy="609840"/>
          </a:xfrm>
          <a:custGeom>
            <a:avLst/>
            <a:gdLst/>
            <a:ahLst/>
            <a:rect l="l" t="t" r="r" b="b"/>
            <a:pathLst>
              <a:path w="1773382" h="609600">
                <a:moveTo>
                  <a:pt x="0" y="609600"/>
                </a:moveTo>
                <a:cubicBezTo>
                  <a:pt x="185882" y="550718"/>
                  <a:pt x="371764" y="491836"/>
                  <a:pt x="457200" y="401782"/>
                </a:cubicBezTo>
                <a:cubicBezTo>
                  <a:pt x="542636" y="311728"/>
                  <a:pt x="422563" y="124691"/>
                  <a:pt x="512618" y="69273"/>
                </a:cubicBezTo>
                <a:cubicBezTo>
                  <a:pt x="602673" y="13855"/>
                  <a:pt x="854363" y="23091"/>
                  <a:pt x="997527" y="69273"/>
                </a:cubicBezTo>
                <a:cubicBezTo>
                  <a:pt x="1140691" y="115455"/>
                  <a:pt x="1274618" y="353291"/>
                  <a:pt x="1371600" y="346364"/>
                </a:cubicBezTo>
                <a:cubicBezTo>
                  <a:pt x="1468582" y="339437"/>
                  <a:pt x="1535545" y="0"/>
                  <a:pt x="1579418" y="27709"/>
                </a:cubicBezTo>
                <a:cubicBezTo>
                  <a:pt x="1623291" y="55418"/>
                  <a:pt x="1602509" y="452582"/>
                  <a:pt x="1634836" y="512618"/>
                </a:cubicBezTo>
                <a:cubicBezTo>
                  <a:pt x="1667163" y="572654"/>
                  <a:pt x="1720272" y="480290"/>
                  <a:pt x="1773382" y="38792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64" descr=""/>
          <p:cNvPicPr/>
          <p:nvPr/>
        </p:nvPicPr>
        <p:blipFill>
          <a:blip r:embed="rId1"/>
          <a:stretch/>
        </p:blipFill>
        <p:spPr>
          <a:xfrm>
            <a:off x="7839000" y="298440"/>
            <a:ext cx="1262160" cy="6426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5"/>
          <p:cNvSpPr/>
          <p:nvPr/>
        </p:nvSpPr>
        <p:spPr>
          <a:xfrm>
            <a:off x="1828800" y="65818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ley Dindinger 5-E 10- 22-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6"/>
          <p:cNvGrpSpPr/>
          <p:nvPr/>
        </p:nvGrpSpPr>
        <p:grpSpPr>
          <a:xfrm>
            <a:off x="1695600" y="573120"/>
            <a:ext cx="266400" cy="262080"/>
            <a:chOff x="1695600" y="573120"/>
            <a:chExt cx="266400" cy="262080"/>
          </a:xfrm>
        </p:grpSpPr>
        <p:pic>
          <p:nvPicPr>
            <p:cNvPr id="98" name="Oval 66" descr=""/>
            <p:cNvPicPr/>
            <p:nvPr/>
          </p:nvPicPr>
          <p:blipFill>
            <a:blip r:embed="rId2"/>
            <a:stretch/>
          </p:blipFill>
          <p:spPr>
            <a:xfrm>
              <a:off x="1695600" y="573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774800" y="631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67"/>
          <p:cNvSpPr/>
          <p:nvPr/>
        </p:nvSpPr>
        <p:spPr>
          <a:xfrm>
            <a:off x="1600200" y="30492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  Jona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Oval 60"/>
          <p:cNvGrpSpPr/>
          <p:nvPr/>
        </p:nvGrpSpPr>
        <p:grpSpPr>
          <a:xfrm>
            <a:off x="3981600" y="4767120"/>
            <a:ext cx="266400" cy="262080"/>
            <a:chOff x="3981600" y="4767120"/>
            <a:chExt cx="266400" cy="262080"/>
          </a:xfrm>
        </p:grpSpPr>
        <p:pic>
          <p:nvPicPr>
            <p:cNvPr id="102" name="Oval 60" descr=""/>
            <p:cNvPicPr/>
            <p:nvPr/>
          </p:nvPicPr>
          <p:blipFill>
            <a:blip r:embed="rId3"/>
            <a:stretch/>
          </p:blipFill>
          <p:spPr>
            <a:xfrm>
              <a:off x="3981600" y="4767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060800" y="48229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65"/>
          <p:cNvSpPr/>
          <p:nvPr/>
        </p:nvSpPr>
        <p:spPr>
          <a:xfrm>
            <a:off x="4114800" y="457200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ds mud pupp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06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09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12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15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18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21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24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27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30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7"/>
          <p:cNvSpPr/>
          <p:nvPr/>
        </p:nvSpPr>
        <p:spPr>
          <a:xfrm rot="16200000">
            <a:off x="-128160" y="1042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8"/>
          <p:cNvSpPr/>
          <p:nvPr/>
        </p:nvSpPr>
        <p:spPr>
          <a:xfrm rot="16200000">
            <a:off x="2089080" y="9280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in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41"/>
          <p:cNvSpPr/>
          <p:nvPr/>
        </p:nvSpPr>
        <p:spPr>
          <a:xfrm>
            <a:off x="789120" y="941400"/>
            <a:ext cx="1261800" cy="762120"/>
          </a:xfrm>
          <a:custGeom>
            <a:avLst/>
            <a:gdLst/>
            <a:ahLst/>
            <a:rect l="l" t="t" r="r" b="b"/>
            <a:pathLst>
              <a:path w="1260764" h="762000">
                <a:moveTo>
                  <a:pt x="0" y="762000"/>
                </a:moveTo>
                <a:cubicBezTo>
                  <a:pt x="275936" y="693882"/>
                  <a:pt x="551873" y="625764"/>
                  <a:pt x="762000" y="498764"/>
                </a:cubicBezTo>
                <a:cubicBezTo>
                  <a:pt x="972127" y="371764"/>
                  <a:pt x="1116445" y="185882"/>
                  <a:pt x="12607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0"/>
          <p:cNvSpPr/>
          <p:nvPr/>
        </p:nvSpPr>
        <p:spPr>
          <a:xfrm>
            <a:off x="3490920" y="853920"/>
            <a:ext cx="1455840" cy="817560"/>
          </a:xfrm>
          <a:custGeom>
            <a:avLst/>
            <a:gdLst/>
            <a:ahLst/>
            <a:rect l="l" t="t" r="r" b="b"/>
            <a:pathLst>
              <a:path w="1454728" h="817418">
                <a:moveTo>
                  <a:pt x="0" y="738909"/>
                </a:moveTo>
                <a:cubicBezTo>
                  <a:pt x="180109" y="778163"/>
                  <a:pt x="360219" y="817418"/>
                  <a:pt x="498764" y="794327"/>
                </a:cubicBezTo>
                <a:cubicBezTo>
                  <a:pt x="637309" y="771236"/>
                  <a:pt x="715819" y="641927"/>
                  <a:pt x="831273" y="600363"/>
                </a:cubicBezTo>
                <a:cubicBezTo>
                  <a:pt x="946727" y="558799"/>
                  <a:pt x="1099127" y="630381"/>
                  <a:pt x="1191491" y="544945"/>
                </a:cubicBezTo>
                <a:cubicBezTo>
                  <a:pt x="1283855" y="459509"/>
                  <a:pt x="1341582" y="175490"/>
                  <a:pt x="1385455" y="87745"/>
                </a:cubicBezTo>
                <a:cubicBezTo>
                  <a:pt x="1429328" y="0"/>
                  <a:pt x="1442028" y="9236"/>
                  <a:pt x="1454728" y="184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Oval 42"/>
          <p:cNvGrpSpPr/>
          <p:nvPr/>
        </p:nvGrpSpPr>
        <p:grpSpPr>
          <a:xfrm>
            <a:off x="4743360" y="804960"/>
            <a:ext cx="266760" cy="261720"/>
            <a:chOff x="4743360" y="804960"/>
            <a:chExt cx="266760" cy="261720"/>
          </a:xfrm>
        </p:grpSpPr>
        <p:pic>
          <p:nvPicPr>
            <p:cNvPr id="146" name="Oval 42" descr=""/>
            <p:cNvPicPr/>
            <p:nvPr/>
          </p:nvPicPr>
          <p:blipFill>
            <a:blip r:embed="rId1"/>
            <a:stretch/>
          </p:blipFill>
          <p:spPr>
            <a:xfrm>
              <a:off x="4743360" y="804960"/>
              <a:ext cx="2667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22920" y="8604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43"/>
          <p:cNvSpPr/>
          <p:nvPr/>
        </p:nvSpPr>
        <p:spPr>
          <a:xfrm>
            <a:off x="4495680" y="533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es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5"/>
          <p:cNvSpPr/>
          <p:nvPr/>
        </p:nvSpPr>
        <p:spPr>
          <a:xfrm rot="16200000">
            <a:off x="582300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>
            <a:off x="6719760" y="1128600"/>
            <a:ext cx="1576440" cy="617760"/>
          </a:xfrm>
          <a:custGeom>
            <a:avLst/>
            <a:gdLst/>
            <a:ahLst/>
            <a:rect l="l" t="t" r="r" b="b"/>
            <a:pathLst>
              <a:path w="1577109" h="616527">
                <a:moveTo>
                  <a:pt x="0" y="616527"/>
                </a:moveTo>
                <a:cubicBezTo>
                  <a:pt x="225136" y="614218"/>
                  <a:pt x="450272" y="611909"/>
                  <a:pt x="623454" y="561109"/>
                </a:cubicBezTo>
                <a:cubicBezTo>
                  <a:pt x="796636" y="510309"/>
                  <a:pt x="909781" y="367145"/>
                  <a:pt x="1039090" y="311727"/>
                </a:cubicBezTo>
                <a:cubicBezTo>
                  <a:pt x="1168399" y="256309"/>
                  <a:pt x="1313873" y="274781"/>
                  <a:pt x="1399309" y="228599"/>
                </a:cubicBezTo>
                <a:cubicBezTo>
                  <a:pt x="1484745" y="182417"/>
                  <a:pt x="1526309" y="69272"/>
                  <a:pt x="1551709" y="34636"/>
                </a:cubicBezTo>
                <a:cubicBezTo>
                  <a:pt x="1577109" y="0"/>
                  <a:pt x="1564409" y="10390"/>
                  <a:pt x="1551709" y="207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7"/>
          <p:cNvSpPr/>
          <p:nvPr/>
        </p:nvSpPr>
        <p:spPr>
          <a:xfrm>
            <a:off x="762120" y="3505320"/>
            <a:ext cx="1468440" cy="299880"/>
          </a:xfrm>
          <a:custGeom>
            <a:avLst/>
            <a:gdLst/>
            <a:ahLst/>
            <a:rect l="l" t="t" r="r" b="b"/>
            <a:pathLst>
              <a:path w="1468582" h="300182">
                <a:moveTo>
                  <a:pt x="0" y="300182"/>
                </a:moveTo>
                <a:cubicBezTo>
                  <a:pt x="158172" y="267854"/>
                  <a:pt x="316345" y="235527"/>
                  <a:pt x="415636" y="189345"/>
                </a:cubicBezTo>
                <a:cubicBezTo>
                  <a:pt x="514927" y="143163"/>
                  <a:pt x="503382" y="46182"/>
                  <a:pt x="595746" y="23091"/>
                </a:cubicBezTo>
                <a:cubicBezTo>
                  <a:pt x="688110" y="0"/>
                  <a:pt x="824345" y="11546"/>
                  <a:pt x="969818" y="50800"/>
                </a:cubicBezTo>
                <a:cubicBezTo>
                  <a:pt x="1115291" y="90054"/>
                  <a:pt x="1468582" y="258618"/>
                  <a:pt x="1468582" y="258618"/>
                </a:cubicBezTo>
                <a:lnTo>
                  <a:pt x="1468582" y="258618"/>
                </a:lnTo>
                <a:lnTo>
                  <a:pt x="1468582" y="2586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8"/>
          <p:cNvSpPr/>
          <p:nvPr/>
        </p:nvSpPr>
        <p:spPr>
          <a:xfrm rot="16200000">
            <a:off x="-242640" y="29854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my  Jealou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1"/>
          <p:cNvSpPr/>
          <p:nvPr/>
        </p:nvSpPr>
        <p:spPr>
          <a:xfrm>
            <a:off x="1600200" y="3200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at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9"/>
          <p:cNvSpPr/>
          <p:nvPr/>
        </p:nvSpPr>
        <p:spPr>
          <a:xfrm rot="16200000">
            <a:off x="2043000" y="29854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ets at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2"/>
          <p:cNvSpPr/>
          <p:nvPr/>
        </p:nvSpPr>
        <p:spPr>
          <a:xfrm>
            <a:off x="3519360" y="2666880"/>
            <a:ext cx="1052640" cy="1212840"/>
          </a:xfrm>
          <a:custGeom>
            <a:avLst/>
            <a:gdLst/>
            <a:ahLst/>
            <a:rect l="l" t="t" r="r" b="b"/>
            <a:pathLst>
              <a:path w="1524000" h="1101436">
                <a:moveTo>
                  <a:pt x="0" y="1101436"/>
                </a:moveTo>
                <a:cubicBezTo>
                  <a:pt x="42718" y="1061027"/>
                  <a:pt x="85436" y="1020618"/>
                  <a:pt x="180109" y="1004454"/>
                </a:cubicBezTo>
                <a:cubicBezTo>
                  <a:pt x="274782" y="988290"/>
                  <a:pt x="436418" y="1013690"/>
                  <a:pt x="568036" y="1004454"/>
                </a:cubicBezTo>
                <a:cubicBezTo>
                  <a:pt x="699654" y="995218"/>
                  <a:pt x="826654" y="1094509"/>
                  <a:pt x="969818" y="949036"/>
                </a:cubicBezTo>
                <a:cubicBezTo>
                  <a:pt x="1112982" y="803563"/>
                  <a:pt x="1334654" y="263236"/>
                  <a:pt x="1427018" y="131618"/>
                </a:cubicBezTo>
                <a:cubicBezTo>
                  <a:pt x="1519382" y="0"/>
                  <a:pt x="1524000" y="159327"/>
                  <a:pt x="1524000" y="159327"/>
                </a:cubicBezTo>
                <a:lnTo>
                  <a:pt x="1524000" y="159327"/>
                </a:lnTo>
                <a:lnTo>
                  <a:pt x="1510145" y="1454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3"/>
          <p:cNvSpPr/>
          <p:nvPr/>
        </p:nvSpPr>
        <p:spPr>
          <a:xfrm>
            <a:off x="4572000" y="2743200"/>
            <a:ext cx="1042920" cy="912960"/>
          </a:xfrm>
          <a:custGeom>
            <a:avLst/>
            <a:gdLst/>
            <a:ahLst/>
            <a:rect l="l" t="t" r="r" b="b"/>
            <a:pathLst>
              <a:path w="1043709" h="912091">
                <a:moveTo>
                  <a:pt x="0" y="140854"/>
                </a:moveTo>
                <a:cubicBezTo>
                  <a:pt x="129309" y="70427"/>
                  <a:pt x="258618" y="0"/>
                  <a:pt x="332509" y="113145"/>
                </a:cubicBezTo>
                <a:cubicBezTo>
                  <a:pt x="406400" y="226290"/>
                  <a:pt x="339437" y="727363"/>
                  <a:pt x="443346" y="819727"/>
                </a:cubicBezTo>
                <a:cubicBezTo>
                  <a:pt x="547255" y="912091"/>
                  <a:pt x="868219" y="692727"/>
                  <a:pt x="955964" y="667327"/>
                </a:cubicBezTo>
                <a:cubicBezTo>
                  <a:pt x="1043709" y="641927"/>
                  <a:pt x="969818" y="667327"/>
                  <a:pt x="969818" y="667327"/>
                </a:cubicBezTo>
                <a:lnTo>
                  <a:pt x="969818" y="6673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Oval 54"/>
          <p:cNvGrpSpPr/>
          <p:nvPr/>
        </p:nvGrpSpPr>
        <p:grpSpPr>
          <a:xfrm>
            <a:off x="4359240" y="2627280"/>
            <a:ext cx="268200" cy="268200"/>
            <a:chOff x="4359240" y="2627280"/>
            <a:chExt cx="268200" cy="268200"/>
          </a:xfrm>
        </p:grpSpPr>
        <p:pic>
          <p:nvPicPr>
            <p:cNvPr id="159" name="Oval 54" descr=""/>
            <p:cNvPicPr/>
            <p:nvPr/>
          </p:nvPicPr>
          <p:blipFill>
            <a:blip r:embed="rId2"/>
            <a:stretch/>
          </p:blipFill>
          <p:spPr>
            <a:xfrm>
              <a:off x="4359240" y="2627280"/>
              <a:ext cx="2682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441680" y="26892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55"/>
          <p:cNvSpPr/>
          <p:nvPr/>
        </p:nvSpPr>
        <p:spPr>
          <a:xfrm>
            <a:off x="434340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63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66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69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72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75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78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81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84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87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30"/>
          <p:cNvSpPr/>
          <p:nvPr/>
        </p:nvSpPr>
        <p:spPr>
          <a:xfrm>
            <a:off x="990720" y="1905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7238880" y="1905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9"/>
          <p:cNvSpPr/>
          <p:nvPr/>
        </p:nvSpPr>
        <p:spPr>
          <a:xfrm flipH="1" flipV="1" rot="10800000">
            <a:off x="7237800" y="4038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4115160" y="1981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1143360" y="6172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40384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7"/>
          <p:cNvSpPr/>
          <p:nvPr/>
        </p:nvSpPr>
        <p:spPr>
          <a:xfrm>
            <a:off x="12952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3962520" y="624852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7315200" y="60958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99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202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205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208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211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214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217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220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223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28:54Z</dcterms:created>
  <dc:creator>ITS User</dc:creator>
  <dc:description/>
  <dc:language>en-US</dc:language>
  <cp:lastModifiedBy>ITSUser</cp:lastModifiedBy>
  <dcterms:modified xsi:type="dcterms:W3CDTF">2009-11-03T18:30:06Z</dcterms:modified>
  <cp:revision>21</cp:revision>
  <dc:subject/>
  <dc:title>Slide 1</dc:title>
</cp:coreProperties>
</file>